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0B6E-5AF7-4755-90A0-2336F5653F7F}"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move the slide</a:t>
            </a:r>
            <a:endParaRPr b="1" lang="en-US" sz="1800" spc="-1" strike="noStrike">
              <a:solidFill>
                <a:srgbClr val="ffffff"/>
              </a:solidFill>
              <a:latin typeface="Arial"/>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97D1-2F97-4F83-94C6-3DEFDB7D3C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 spatial problem solving. It is knowing where you are in a building or an environment, knowing where your desired location is, and knowing how to get there from your present location.</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9A1D-5485-4936-957E-AF37EFE82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2BDF-1A1D-473C-B6AE-ADE659175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D499-5CF4-4784-80F3-5CA544B2A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E J1725</a:t>
            </a:r>
            <a:r>
              <a:rPr b="0" lang="en-US" sz="1200" spc="-1" strike="noStrike">
                <a:solidFill>
                  <a:srgbClr val="000000"/>
                </a:solidFill>
                <a:latin typeface="Calibri"/>
              </a:rPr>
              <a:t>	</a:t>
            </a:r>
            <a:r>
              <a:rPr b="0" lang="en-US" sz="1200" spc="-1" strike="noStrike">
                <a:solidFill>
                  <a:srgbClr val="000000"/>
                </a:solidFill>
                <a:latin typeface="Calibri"/>
              </a:rPr>
              <a:t>Structural Modification for Personally Licensed Vehicles to Meet the Transportation Needs of Persons with Disa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E J2092</a:t>
            </a:r>
            <a:r>
              <a:rPr b="0" lang="en-US" sz="1200" spc="-1" strike="noStrike">
                <a:solidFill>
                  <a:srgbClr val="000000"/>
                </a:solidFill>
                <a:latin typeface="Calibri"/>
              </a:rPr>
              <a:t>	</a:t>
            </a:r>
            <a:r>
              <a:rPr b="0" lang="en-US" sz="1200" spc="-1" strike="noStrike">
                <a:solidFill>
                  <a:srgbClr val="000000"/>
                </a:solidFill>
                <a:latin typeface="Calibri"/>
              </a:rPr>
              <a:t>Testing of Wheelchair Lifts for Entry to or Exit from a Personally Licensed Vehi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E J2093</a:t>
            </a:r>
            <a:r>
              <a:rPr b="0" lang="en-US" sz="1200" spc="-1" strike="noStrike">
                <a:solidFill>
                  <a:srgbClr val="000000"/>
                </a:solidFill>
                <a:latin typeface="Calibri"/>
              </a:rPr>
              <a:t>	</a:t>
            </a:r>
            <a:r>
              <a:rPr b="0" lang="en-US" sz="1200" spc="-1" strike="noStrike">
                <a:solidFill>
                  <a:srgbClr val="000000"/>
                </a:solidFill>
                <a:latin typeface="Calibri"/>
              </a:rPr>
              <a:t>Design Considerations for Wheelchair Lifts for Entry to or Exit from a Personally Licensed Vehi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E J2249</a:t>
            </a:r>
            <a:r>
              <a:rPr b="0" lang="en-US" sz="1200" spc="-1" strike="noStrike">
                <a:solidFill>
                  <a:srgbClr val="000000"/>
                </a:solidFill>
                <a:latin typeface="Calibri"/>
              </a:rPr>
              <a:t>	</a:t>
            </a:r>
            <a:r>
              <a:rPr b="0" lang="en-US" sz="1200" spc="-1" strike="noStrike">
                <a:solidFill>
                  <a:srgbClr val="000000"/>
                </a:solidFill>
                <a:latin typeface="Calibri"/>
              </a:rPr>
              <a:t>Wheelchair Tiedown and Occupant Restraint Systems for Use in Motor Vehicles</a:t>
            </a: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21D2-C659-417D-8F37-CE3E54677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A40F-3B68-4F1A-BA51-954C9615D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D475CA-3050-49C9-BCC0-CFA0CFA54D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B49396-9A90-418F-B1BF-12F3CEC020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5"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6"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4E399E4-F95D-4779-9F18-F288DD9310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52AA3B8-A61C-4AFF-AECE-665E94B63E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A4EA987-6D7A-4A96-8663-2F40755DBA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0"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1"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2"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C8461B1-DA23-48E5-AFA7-C7E8E296631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4"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5"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6"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629B668-3391-4E54-9552-9680C35A4D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8"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9"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0"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B4E684-B1B9-4821-9D30-13484FFBA6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2"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3"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8FAAF19-84F4-41D8-9147-7031E7E34E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5"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6"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7"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8"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DB4A083-15E1-4C48-9DE2-890F8A0CFB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0"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1"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2"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3"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4"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5"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A1FC5C7-8477-4CA3-9744-1BECDD5873D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2C91A4-3DEC-479E-9EE7-949F400B4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EE49D2-D99B-43DF-815C-2B10BEBEDAA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4"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2A4355-3F30-44CA-9EC1-0AEAEECE764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6"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F7EC61-AEB9-486B-BA37-48905C088E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8"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9"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DA07F-7814-4C12-9F9E-868FBEBDF6E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3D12B0-D1B0-4D90-BFFB-C0DA5C0743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EEC3A8-57EC-4ABF-BC93-240785AB07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3"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4"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5"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86934-710E-4B93-BCB8-B8B89F09131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7"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8"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09"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5B2D6-18B2-453E-8F5C-9D5603FC0F5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1"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2"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3"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0F502-CCD9-49B0-9209-489E8E8768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5"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6"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31EA63-9C6A-4683-94B9-FD82841018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8"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19"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0"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1"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CB785B-4E78-497F-9BEA-7EFC071001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5"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6"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7"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8"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44392E-BEEB-4740-82A1-0E24CCE06C3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3"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4"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5"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6"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7"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8"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F2CDA5-F14F-4F14-B039-A9C4BC09AF0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39E2DAB-C08D-484E-BB12-7417E6A75E1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7"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42ADB97-812F-485E-8912-1BA2E2564B4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9"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EB9B45E-062B-459A-84A0-EA707480227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1"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2"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DFBFA1D-1A6B-479D-9CBA-9E4AD4208AC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0AF859-E9F3-48E4-9DBF-9CFB2D260BE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2F6AD2D-BE8A-426B-870D-F61E0493E7D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6"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7"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8"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1EC101-8173-423E-BA44-F09C151DE4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0"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1"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2"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5D7A1D-8C29-430B-8E78-17C8580F1CC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4"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5"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6"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05297E-AA2A-4DDF-B2CF-E367E50A6C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8"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9"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94D74E2-082F-466B-9098-42C9B247C1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1"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2"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3"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4"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53496F2-C2AC-4A2C-88FA-05327D94D7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6"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7"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8"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69"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70"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71"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417BEB2-0B36-4806-8179-D4883AC382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87457A5-8614-4FB0-8C22-5009478A64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0"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736A521-3319-4FB7-846A-EC9C25AF7B6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2"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5B99DA6-214B-477D-81D3-DC82DBCD755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4"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85"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27CCAE-F9FA-4C2C-B52F-F09F56D4F5E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0FB0642-121E-431C-807A-D5B9C4F013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23239EE-7AFF-4B24-8527-507D5E9329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9"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0"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1"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10602A9-F449-4C1E-BBFD-5F6E6DD780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3"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4"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5030B5-138D-4ADA-B14A-BCC333B3582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7"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8"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9"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B1D4D3-AACD-4E15-BFF8-FA3441580E5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1"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2"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734C8C0-4035-4134-BBC1-C9B7DEA1BBC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4"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5"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6"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7"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7C1ACDA-A24F-49F0-8A50-E25EAA8B549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09"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0"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1"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2"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3"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4"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C1169AD-983F-46FB-BDA0-420A73B6DF3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3EAB8E-1401-4761-A3EC-B9430126333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3"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AE6015-E254-4FD4-B985-0714AA5CDCA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BD62A3-879F-44D9-9C1C-B2003ADDD8C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7"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8"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A05CF5-AE14-445E-9AAE-645D0B5AFB9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FA0F37-B1B2-4CD1-A35E-71774427B3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63FCC6-16A9-4C6F-9851-EDC076C6206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2"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3"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4"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706088-141B-43E7-A3E7-53D92ADFCBB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6"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7"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38"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9BBD3F-3E7B-48B7-BF0B-C9F00D73F8C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0"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41"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42"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6C16B-02EF-4A39-8F8C-EAEB0A73E30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4"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45"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9A0AF1-482F-4660-9E17-AE50E610425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7"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48"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49"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0"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C6184E-A364-4D37-A96F-CCE08CD7E74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2"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3"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4"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5"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6"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7"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D86DD8-8F31-4169-8FA7-41894D1060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9"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1"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70FF8-70F1-40CC-BF07-EE85180FB5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9"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2"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4"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5"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6"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9"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0"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1"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2"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D72083-5404-45DF-88E7-D3819370D8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26424F-3299-45C2-B0D3-9F1A7A186E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5"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061C7A-1029-4C43-8C9B-DD223BF4C6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7"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8"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05EB22-FE95-4620-800C-73668A6F72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2A84BF-7B80-49DE-82CA-C7643E7D58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4F5782-542D-4AD7-A163-095FD37B57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2FCABE-7C97-40AE-98CA-90168488BB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3"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4"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46A58C-9D2F-4811-8F41-09DEE24070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7"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8"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41D733-7C8F-461B-8D4D-AC577A4D2F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0"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1"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2"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E55212-FF97-4994-98BC-E51552BEEE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A22349-4954-42D9-A806-EEDD4D26923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7"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0"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6C4962-B7D6-4094-BDA4-9E6436D631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3"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5"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6"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7"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BDE5894-D999-4507-95CA-59EC75F90B3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84F5F-5C35-4129-B8BF-2F0858E8D74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6"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C283F-AC99-4AD4-9304-4073BC9EF0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38"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5EF4E-7769-4F0D-956E-7D1E4802FE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A2134-28BA-4F5C-AB42-F2535A3783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1"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3FE81-3C7B-4690-B234-6E09681C18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A3F78-099C-44E2-865F-34CADF87E1A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E0D48-2DDF-45C9-B2CE-61E5EF68D5F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5"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C725D-E70D-4224-9826-1B357EC2EDC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9"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0"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1"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34D85-4E03-4E4F-835D-FB026EC8FE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3"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4"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C0836-03E7-47BF-81FE-B37B70E7982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7"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0DD5B-B806-49E1-9D05-E5C485BB62A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0"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1"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3"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DB401-62DB-48C4-BB67-5D173605FFA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5"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6"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7"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8"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9"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019AD-9730-4B65-A463-92AD9D6C48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875C89-D2E3-4EA2-BCA1-5E03F30AF7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D83253-FDC5-49B4-AE7A-F0E68E56FF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79"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00543E-E50F-4E68-92FD-CAC44E9DAA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1"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9F55FE-D7C7-403A-AC4C-79068107FFC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3"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4"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F55029-B62A-4FB6-9352-DA35272DDF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BA8CA2-DE2B-44F0-B3CB-43F8EEDDDE4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007E49-54ED-494E-AA19-D65E9233890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8"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9"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0"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D17DE1-DCEB-4F83-B858-7C55A841C9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2"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3"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4"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43E23D-C277-4775-8D6E-CA7371888C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6"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8"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8B6277-0BEB-4761-BE87-325C85DBBA4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0"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CBDE9B-61B4-4825-9904-2EB770A598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3"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4"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5"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6"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75C1AD7-AF81-4F0B-858C-B9A868A7C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88070C-8F20-46A5-98E5-DF86DD3F7F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8"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9"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0"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1"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2"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3"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E65500-D02F-48B6-86DD-95E97F23EA0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728DE0D-DAE0-4A60-8CB0-08D5D972E6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2"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66E06D3-1B2A-4B48-B493-9F4CA9DAEF9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4"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962063D-8D2D-42EA-A65C-32982DBE01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6"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BBEB873-6A07-4C74-9D1C-11516323DC3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7BAD8BA-FF50-4AC8-9EC6-DFC07AE325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49F9459-B429-41E7-A130-43B2C22CE00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1"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3"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F17B5E-6A1A-4D72-9330-04FD6D20F6C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5"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6"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7"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39A51B-BA36-42DB-8167-60F51CF1D7B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9"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0"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1"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26E317-99D2-4D21-8A6F-5BE378E235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5509A2-C09C-4CBD-95F3-1A87098F6E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3"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4"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A7E46E-F08C-41F0-BE7D-D475741C08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6"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7"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8"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9"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D20930E-25FE-43FC-AF2D-3AD55D6E58D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51"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2"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3"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4"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5"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6"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22F687F-1FA7-4E96-A3D1-FAFEC6419A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5CDB39-D8FA-41E3-87F8-BAD354A4167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5"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E6BFE1-5B61-4731-9C50-9BC5AD97FC4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7"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52FAB-155B-4C02-9814-A8F261B3DDF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9"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AA919-9F03-42A7-B3D7-36B5B28484E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9F99B-1E43-43C7-B5BA-7BC24BCDC1D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167BD-2630-41E5-BF26-6D314A4F71F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4"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5"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6"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2CBCB8-DF82-45BA-B1F0-E7A6B99E1C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8D796-74BE-4C53-A589-D37E929748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8"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9"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0"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989FB-44EA-45A3-8D60-D37D96045FB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2"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3"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4"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27824-FCD7-4F22-AEF7-3188D18549D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6"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7"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17B70-819E-44FB-8B58-ED36A9F4B00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9"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1"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712221-B08D-45E0-95C4-AF351D511F7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94"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5"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6"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7"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8"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9"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11D721-F6FF-4F6C-A3FE-F1EA38396B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734F4A9-F400-4494-A46B-A741648D42D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8"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419833C-2905-4D62-84B2-81848B610D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0"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6C2569-1F6B-471C-BEAA-0049FD7380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2"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3"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23A1CB-8557-4E02-8C98-00683A3722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944CB8-0F98-4DED-925E-96BBCAD966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754DA-7D98-44E5-8C57-80E41F0DE06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182160"/>
            <a:ext cx="8229600" cy="3113640"/>
          </a:xfrm>
          <a:prstGeom prst="rect">
            <a:avLst/>
          </a:prstGeom>
          <a:noFill/>
          <a:ln w="0">
            <a:noFill/>
          </a:ln>
        </p:spPr>
        <p:txBody>
          <a:bodyPr lIns="0" rIns="0" tIns="0" bIns="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1921FD6-2F5F-4B3D-B242-2BF594ADAB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7"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PlaceHolder 3"/>
          <p:cNvSpPr>
            <a:spLocks noGrp="1"/>
          </p:cNvSpPr>
          <p:nvPr>
            <p:ph/>
          </p:nvPr>
        </p:nvSpPr>
        <p:spPr>
          <a:xfrm>
            <a:off x="467424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E5695F-5222-40BD-8979-B522C2D1D50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1" name="PlaceHolder 2"/>
          <p:cNvSpPr>
            <a:spLocks noGrp="1"/>
          </p:cNvSpPr>
          <p:nvPr>
            <p:ph/>
          </p:nvPr>
        </p:nvSpPr>
        <p:spPr>
          <a:xfrm>
            <a:off x="457200" y="1213920"/>
            <a:ext cx="40158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2"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3" name="PlaceHolder 4"/>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15F8B5-7399-4BF5-B7DA-1C0C0E7523F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5"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6"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7" name="PlaceHolder 4"/>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2E5060-1FE6-47EE-A76B-B8B47908B3D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9" name="PlaceHolder 2"/>
          <p:cNvSpPr>
            <a:spLocks noGrp="1"/>
          </p:cNvSpPr>
          <p:nvPr>
            <p:ph/>
          </p:nvPr>
        </p:nvSpPr>
        <p:spPr>
          <a:xfrm>
            <a:off x="457200" y="121392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0" name="PlaceHolder 3"/>
          <p:cNvSpPr>
            <a:spLocks noGrp="1"/>
          </p:cNvSpPr>
          <p:nvPr>
            <p:ph/>
          </p:nvPr>
        </p:nvSpPr>
        <p:spPr>
          <a:xfrm>
            <a:off x="457200" y="3761280"/>
            <a:ext cx="822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AA10CA-F811-4CCD-BD1A-83178FBA498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PlaceHolder 2"/>
          <p:cNvSpPr>
            <a:spLocks noGrp="1"/>
          </p:cNvSpPr>
          <p:nvPr>
            <p:ph/>
          </p:nvPr>
        </p:nvSpPr>
        <p:spPr>
          <a:xfrm>
            <a:off x="45720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3" name="PlaceHolder 3"/>
          <p:cNvSpPr>
            <a:spLocks noGrp="1"/>
          </p:cNvSpPr>
          <p:nvPr>
            <p:ph/>
          </p:nvPr>
        </p:nvSpPr>
        <p:spPr>
          <a:xfrm>
            <a:off x="4674240" y="121392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4" name="PlaceHolder 4"/>
          <p:cNvSpPr>
            <a:spLocks noGrp="1"/>
          </p:cNvSpPr>
          <p:nvPr>
            <p:ph/>
          </p:nvPr>
        </p:nvSpPr>
        <p:spPr>
          <a:xfrm>
            <a:off x="45720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5" name="PlaceHolder 5"/>
          <p:cNvSpPr>
            <a:spLocks noGrp="1"/>
          </p:cNvSpPr>
          <p:nvPr>
            <p:ph/>
          </p:nvPr>
        </p:nvSpPr>
        <p:spPr>
          <a:xfrm>
            <a:off x="4674240" y="3761280"/>
            <a:ext cx="40158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01596B0-0123-490C-AEF5-EEE9801952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7" name="PlaceHolder 2"/>
          <p:cNvSpPr>
            <a:spLocks noGrp="1"/>
          </p:cNvSpPr>
          <p:nvPr>
            <p:ph/>
          </p:nvPr>
        </p:nvSpPr>
        <p:spPr>
          <a:xfrm>
            <a:off x="45720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8" name="PlaceHolder 3"/>
          <p:cNvSpPr>
            <a:spLocks noGrp="1"/>
          </p:cNvSpPr>
          <p:nvPr>
            <p:ph/>
          </p:nvPr>
        </p:nvSpPr>
        <p:spPr>
          <a:xfrm>
            <a:off x="323964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9" name="PlaceHolder 4"/>
          <p:cNvSpPr>
            <a:spLocks noGrp="1"/>
          </p:cNvSpPr>
          <p:nvPr>
            <p:ph/>
          </p:nvPr>
        </p:nvSpPr>
        <p:spPr>
          <a:xfrm>
            <a:off x="6022080" y="121392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0" name="PlaceHolder 5"/>
          <p:cNvSpPr>
            <a:spLocks noGrp="1"/>
          </p:cNvSpPr>
          <p:nvPr>
            <p:ph/>
          </p:nvPr>
        </p:nvSpPr>
        <p:spPr>
          <a:xfrm>
            <a:off x="45720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1" name="PlaceHolder 6"/>
          <p:cNvSpPr>
            <a:spLocks noGrp="1"/>
          </p:cNvSpPr>
          <p:nvPr>
            <p:ph/>
          </p:nvPr>
        </p:nvSpPr>
        <p:spPr>
          <a:xfrm>
            <a:off x="323964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42" name="PlaceHolder 7"/>
          <p:cNvSpPr>
            <a:spLocks noGrp="1"/>
          </p:cNvSpPr>
          <p:nvPr>
            <p:ph/>
          </p:nvPr>
        </p:nvSpPr>
        <p:spPr>
          <a:xfrm>
            <a:off x="6022080" y="3761280"/>
            <a:ext cx="2649600" cy="232596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2D850F0-1709-4B02-9539-5855230E795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1E65704-1F39-4153-9DAD-129763C11C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1" name="PlaceHolder 2"/>
          <p:cNvSpPr>
            <a:spLocks noGrp="1"/>
          </p:cNvSpPr>
          <p:nvPr>
            <p:ph type="subTitle"/>
          </p:nvPr>
        </p:nvSpPr>
        <p:spPr>
          <a:xfrm>
            <a:off x="457200" y="1213920"/>
            <a:ext cx="8229600" cy="4876920"/>
          </a:xfrm>
          <a:prstGeom prst="rect">
            <a:avLst/>
          </a:prstGeom>
          <a:noFill/>
          <a:ln w="0">
            <a:noFill/>
          </a:ln>
        </p:spPr>
        <p:txBody>
          <a:bodyPr lIns="0" rIns="0" tIns="0" bIns="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12816C0-ACF5-4089-B079-6544295727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3" name="PlaceHolder 2"/>
          <p:cNvSpPr>
            <a:spLocks noGrp="1"/>
          </p:cNvSpPr>
          <p:nvPr>
            <p:ph/>
          </p:nvPr>
        </p:nvSpPr>
        <p:spPr>
          <a:xfrm>
            <a:off x="457200" y="1213920"/>
            <a:ext cx="8229600" cy="4876920"/>
          </a:xfrm>
          <a:prstGeom prst="rect">
            <a:avLst/>
          </a:prstGeom>
          <a:noFill/>
          <a:ln w="0">
            <a:noFill/>
          </a:ln>
        </p:spPr>
        <p:txBody>
          <a:bodyPr lIns="0" rIns="0" tIns="0" bIns="0" anchor="t">
            <a:normAutofit/>
          </a:bodyPr>
          <a:p>
            <a:pPr marL="34308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BF21FC0-C294-4413-92FC-7EE9C27A7C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2" name="PlaceHolder 3"/>
          <p:cNvSpPr>
            <a:spLocks noGrp="1"/>
          </p:cNvSpPr>
          <p:nvPr>
            <p:ph type="ftr" idx="1"/>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60EC-3BC4-4982-8AF2-9BA19F8C48D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386"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E INTERNATIONAL</a:t>
            </a:r>
            <a:endParaRPr b="0" lang="en-US" sz="800" spc="-1" strike="noStrike">
              <a:solidFill>
                <a:srgbClr val="000000"/>
              </a:solidFill>
              <a:latin typeface="Arial"/>
            </a:endParaRPr>
          </a:p>
        </p:txBody>
      </p:sp>
      <p:sp>
        <p:nvSpPr>
          <p:cNvPr id="38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90"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391" name="PlaceHolder 3"/>
          <p:cNvSpPr>
            <a:spLocks noGrp="1"/>
          </p:cNvSpPr>
          <p:nvPr>
            <p:ph type="ftr" idx="17"/>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392" name="PlaceHolder 4"/>
          <p:cNvSpPr>
            <a:spLocks noGrp="1"/>
          </p:cNvSpPr>
          <p:nvPr>
            <p:ph type="sldNum" idx="18"/>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EAB3-99FF-4841-8D49-4E32B2670D8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429"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E INTERNATIONAL</a:t>
            </a:r>
            <a:endParaRPr b="0" lang="en-US" sz="800" spc="-1" strike="noStrike">
              <a:solidFill>
                <a:srgbClr val="000000"/>
              </a:solidFill>
              <a:latin typeface="Arial"/>
            </a:endParaRPr>
          </a:p>
        </p:txBody>
      </p:sp>
      <p:sp>
        <p:nvSpPr>
          <p:cNvPr id="43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33"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434" name="PlaceHolder 3"/>
          <p:cNvSpPr>
            <a:spLocks noGrp="1"/>
          </p:cNvSpPr>
          <p:nvPr>
            <p:ph type="ftr" idx="19"/>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435" name="PlaceHolder 4"/>
          <p:cNvSpPr>
            <a:spLocks noGrp="1"/>
          </p:cNvSpPr>
          <p:nvPr>
            <p:ph type="sldNum" idx="20"/>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A5C4-0FE1-4ECD-8339-97966F7D507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472"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E INTERNATIONAL</a:t>
            </a:r>
            <a:endParaRPr b="0" lang="en-US" sz="800" spc="-1" strike="noStrike">
              <a:solidFill>
                <a:srgbClr val="000000"/>
              </a:solidFill>
              <a:latin typeface="Arial"/>
            </a:endParaRPr>
          </a:p>
        </p:txBody>
      </p:sp>
      <p:sp>
        <p:nvSpPr>
          <p:cNvPr id="475"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76"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477" name="PlaceHolder 3"/>
          <p:cNvSpPr>
            <a:spLocks noGrp="1"/>
          </p:cNvSpPr>
          <p:nvPr>
            <p:ph type="ftr" idx="21"/>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478" name="PlaceHolder 4"/>
          <p:cNvSpPr>
            <a:spLocks noGrp="1"/>
          </p:cNvSpPr>
          <p:nvPr>
            <p:ph type="sldNum" idx="22"/>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33D6-5E1B-4066-A521-B2B54912961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515"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E INTERNATIONAL</a:t>
            </a:r>
            <a:endParaRPr b="0" lang="en-US" sz="800" spc="-1" strike="noStrike">
              <a:solidFill>
                <a:srgbClr val="000000"/>
              </a:solidFill>
              <a:latin typeface="Arial"/>
            </a:endParaRPr>
          </a:p>
        </p:txBody>
      </p:sp>
      <p:sp>
        <p:nvSpPr>
          <p:cNvPr id="51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519"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520" name="PlaceHolder 3"/>
          <p:cNvSpPr>
            <a:spLocks noGrp="1"/>
          </p:cNvSpPr>
          <p:nvPr>
            <p:ph type="ftr" idx="23"/>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521" name="PlaceHolder 4"/>
          <p:cNvSpPr>
            <a:spLocks noGrp="1"/>
          </p:cNvSpPr>
          <p:nvPr>
            <p:ph type="sldNum" idx="24"/>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49BC-256D-4638-BCFF-AADD6CA61A5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pic>
        <p:nvPicPr>
          <p:cNvPr id="40" name="Picture 6" descr="int_sae_vrt_blk_rgb_pos.png"/>
          <p:cNvPicPr/>
          <p:nvPr/>
        </p:nvPicPr>
        <p:blipFill>
          <a:blip r:embed="rId2"/>
          <a:stretch/>
        </p:blipFill>
        <p:spPr>
          <a:xfrm>
            <a:off x="423720" y="5681520"/>
            <a:ext cx="920880" cy="611280"/>
          </a:xfrm>
          <a:prstGeom prst="rect">
            <a:avLst/>
          </a:prstGeom>
          <a:ln w="0">
            <a:noFill/>
          </a:ln>
        </p:spPr>
      </p:pic>
      <p:grpSp>
        <p:nvGrpSpPr>
          <p:cNvPr id="41" name="Group 7"/>
          <p:cNvGrpSpPr/>
          <p:nvPr/>
        </p:nvGrpSpPr>
        <p:grpSpPr>
          <a:xfrm>
            <a:off x="0" y="0"/>
            <a:ext cx="9159840" cy="6858000"/>
            <a:chOff x="0" y="0"/>
            <a:chExt cx="9159840" cy="6858000"/>
          </a:xfrm>
        </p:grpSpPr>
        <p:sp>
          <p:nvSpPr>
            <p:cNvPr id="42" name="Rectangle 8"/>
            <p:cNvSpPr/>
            <p:nvPr/>
          </p:nvSpPr>
          <p:spPr>
            <a:xfrm>
              <a:off x="0" y="0"/>
              <a:ext cx="457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9"/>
            <p:cNvSpPr/>
            <p:nvPr/>
          </p:nvSpPr>
          <p:spPr>
            <a:xfrm>
              <a:off x="8686800" y="0"/>
              <a:ext cx="4572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054760"/>
              <a:ext cx="9144000" cy="1803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rot="18060000">
              <a:off x="8390520" y="4710600"/>
              <a:ext cx="74772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 name="Picture 12" descr="int_sae_vrt_dbl_rgb_pos.png"/>
          <p:cNvPicPr/>
          <p:nvPr/>
        </p:nvPicPr>
        <p:blipFill>
          <a:blip r:embed="rId3"/>
          <a:stretch/>
        </p:blipFill>
        <p:spPr>
          <a:xfrm>
            <a:off x="420840" y="5681520"/>
            <a:ext cx="920520" cy="611280"/>
          </a:xfrm>
          <a:prstGeom prst="rect">
            <a:avLst/>
          </a:prstGeom>
          <a:ln w="0">
            <a:noFill/>
          </a:ln>
        </p:spPr>
      </p:pic>
      <p:sp>
        <p:nvSpPr>
          <p:cNvPr id="4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48"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85" name="Straight Connector 6"/>
          <p:cNvSpPr/>
          <p:nvPr/>
        </p:nvSpPr>
        <p:spPr>
          <a:xfrm>
            <a:off x="457200" y="6437160"/>
            <a:ext cx="8229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TextBox 7"/>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ＭＳ Ｐゴシック"/>
              </a:rPr>
              <a:t>SAE INTERNATIONAL</a:t>
            </a:r>
            <a:endParaRPr b="0" lang="en-US" sz="800" spc="-1" strike="noStrike">
              <a:solidFill>
                <a:srgbClr val="000000"/>
              </a:solidFill>
              <a:latin typeface="Arial"/>
            </a:endParaRPr>
          </a:p>
        </p:txBody>
      </p:sp>
      <p:sp>
        <p:nvSpPr>
          <p:cNvPr id="87" name="Freeform 8"/>
          <p:cNvSpPr/>
          <p:nvPr/>
        </p:nvSpPr>
        <p:spPr>
          <a:xfrm>
            <a:off x="460440" y="576360"/>
            <a:ext cx="8229600" cy="5519520"/>
          </a:xfrm>
          <a:custGeom>
            <a:avLst/>
            <a:gdLst/>
            <a:ahLst/>
            <a:rect l="l" t="t" r="r" b="b"/>
            <a:pathLst>
              <a:path w="8229600" h="4139231">
                <a:moveTo>
                  <a:pt x="7950394" y="4139231"/>
                </a:moveTo>
                <a:lnTo>
                  <a:pt x="8229600" y="3863951"/>
                </a:lnTo>
                <a:cubicBezTo>
                  <a:pt x="8227273" y="2633117"/>
                  <a:pt x="8224947" y="1230834"/>
                  <a:pt x="8222620" y="0"/>
                </a:cubicBezTo>
                <a:lnTo>
                  <a:pt x="0" y="0"/>
                </a:lnTo>
                <a:lnTo>
                  <a:pt x="0" y="4139231"/>
                </a:lnTo>
                <a:lnTo>
                  <a:pt x="7950394" y="4139231"/>
                </a:ln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89"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90" name="PlaceHolder 3"/>
          <p:cNvSpPr>
            <a:spLocks noGrp="1"/>
          </p:cNvSpPr>
          <p:nvPr>
            <p:ph type="ftr" idx="3"/>
          </p:nvPr>
        </p:nvSpPr>
        <p:spPr>
          <a:xfrm>
            <a:off x="3246120" y="6497640"/>
            <a:ext cx="2895480" cy="1713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aper # (if applicable)</a:t>
            </a:r>
            <a:endParaRPr b="0" lang="en-US" sz="800" spc="-1" strike="noStrike">
              <a:solidFill>
                <a:srgbClr val="000000"/>
              </a:solidFill>
              <a:latin typeface="Times New Roman"/>
            </a:endParaRPr>
          </a:p>
        </p:txBody>
      </p:sp>
      <p:sp>
        <p:nvSpPr>
          <p:cNvPr id="91" name="PlaceHolder 4"/>
          <p:cNvSpPr>
            <a:spLocks noGrp="1"/>
          </p:cNvSpPr>
          <p:nvPr>
            <p:ph type="sldNum" idx="4"/>
          </p:nvPr>
        </p:nvSpPr>
        <p:spPr>
          <a:xfrm>
            <a:off x="6552720" y="6497640"/>
            <a:ext cx="2133720" cy="1713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2449-249C-4D55-9A98-DBBE8481003B}"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128" name="Straight Connector 6"/>
          <p:cNvSpPr/>
          <p:nvPr/>
        </p:nvSpPr>
        <p:spPr>
          <a:xfrm>
            <a:off x="457200" y="6437160"/>
            <a:ext cx="8229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Freeform 7"/>
          <p:cNvSpPr/>
          <p:nvPr/>
        </p:nvSpPr>
        <p:spPr>
          <a:xfrm>
            <a:off x="460440" y="576360"/>
            <a:ext cx="8229600" cy="5519520"/>
          </a:xfrm>
          <a:custGeom>
            <a:avLst/>
            <a:gdLst/>
            <a:ahLst/>
            <a:rect l="l" t="t" r="r" b="b"/>
            <a:pathLst>
              <a:path w="8229600" h="4139231">
                <a:moveTo>
                  <a:pt x="7950394" y="4139231"/>
                </a:moveTo>
                <a:lnTo>
                  <a:pt x="8229600" y="3863951"/>
                </a:lnTo>
                <a:cubicBezTo>
                  <a:pt x="8227273" y="2633117"/>
                  <a:pt x="8224947" y="1230834"/>
                  <a:pt x="8222620" y="0"/>
                </a:cubicBezTo>
                <a:lnTo>
                  <a:pt x="0" y="0"/>
                </a:lnTo>
                <a:lnTo>
                  <a:pt x="0" y="4139231"/>
                </a:lnTo>
                <a:lnTo>
                  <a:pt x="7950394" y="4139231"/>
                </a:ln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AE INTERNATIONAL</a:t>
            </a:r>
            <a:endParaRPr b="0" lang="en-US" sz="800" spc="-1" strike="noStrike">
              <a:solidFill>
                <a:srgbClr val="000000"/>
              </a:solidFill>
              <a:latin typeface="Arial"/>
            </a:endParaRPr>
          </a:p>
        </p:txBody>
      </p:sp>
      <p:sp>
        <p:nvSpPr>
          <p:cNvPr id="131"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32"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133" name="PlaceHolder 3"/>
          <p:cNvSpPr>
            <a:spLocks noGrp="1"/>
          </p:cNvSpPr>
          <p:nvPr>
            <p:ph type="ftr" idx="5"/>
          </p:nvPr>
        </p:nvSpPr>
        <p:spPr>
          <a:xfrm>
            <a:off x="3246120" y="6497640"/>
            <a:ext cx="2895480" cy="1713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aper # (if applicable)</a:t>
            </a:r>
            <a:endParaRPr b="0" lang="en-US" sz="800" spc="-1" strike="noStrike">
              <a:solidFill>
                <a:srgbClr val="000000"/>
              </a:solidFill>
              <a:latin typeface="Times New Roman"/>
            </a:endParaRPr>
          </a:p>
        </p:txBody>
      </p:sp>
      <p:sp>
        <p:nvSpPr>
          <p:cNvPr id="134" name="PlaceHolder 4"/>
          <p:cNvSpPr>
            <a:spLocks noGrp="1"/>
          </p:cNvSpPr>
          <p:nvPr>
            <p:ph type="sldNum" idx="6"/>
          </p:nvPr>
        </p:nvSpPr>
        <p:spPr>
          <a:xfrm>
            <a:off x="6552720" y="6497640"/>
            <a:ext cx="2133720" cy="1713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763F-870D-48FB-A04E-113CA78F2AD8}"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171" name="Straight Connector 6"/>
          <p:cNvSpPr/>
          <p:nvPr/>
        </p:nvSpPr>
        <p:spPr>
          <a:xfrm>
            <a:off x="457200" y="6437160"/>
            <a:ext cx="8229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TextBox 7"/>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AE INTERNATIONAL</a:t>
            </a:r>
            <a:endParaRPr b="0" lang="en-US" sz="800" spc="-1" strike="noStrike">
              <a:solidFill>
                <a:srgbClr val="000000"/>
              </a:solidFill>
              <a:latin typeface="Arial"/>
            </a:endParaRPr>
          </a:p>
        </p:txBody>
      </p:sp>
      <p:sp>
        <p:nvSpPr>
          <p:cNvPr id="173" name="Freeform 8"/>
          <p:cNvSpPr/>
          <p:nvPr/>
        </p:nvSpPr>
        <p:spPr>
          <a:xfrm>
            <a:off x="460440" y="576360"/>
            <a:ext cx="8229600" cy="5519520"/>
          </a:xfrm>
          <a:custGeom>
            <a:avLst/>
            <a:gdLst/>
            <a:ahLst/>
            <a:rect l="l" t="t" r="r" b="b"/>
            <a:pathLst>
              <a:path w="8229600" h="4139231">
                <a:moveTo>
                  <a:pt x="7950394" y="4139231"/>
                </a:moveTo>
                <a:lnTo>
                  <a:pt x="8229600" y="3863951"/>
                </a:lnTo>
                <a:cubicBezTo>
                  <a:pt x="8227273" y="2633117"/>
                  <a:pt x="8224947" y="1230834"/>
                  <a:pt x="8222620" y="0"/>
                </a:cubicBezTo>
                <a:lnTo>
                  <a:pt x="0" y="0"/>
                </a:lnTo>
                <a:lnTo>
                  <a:pt x="0" y="4139231"/>
                </a:lnTo>
                <a:lnTo>
                  <a:pt x="7950394" y="4139231"/>
                </a:ln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175"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176" name="PlaceHolder 3"/>
          <p:cNvSpPr>
            <a:spLocks noGrp="1"/>
          </p:cNvSpPr>
          <p:nvPr>
            <p:ph type="ftr" idx="7"/>
          </p:nvPr>
        </p:nvSpPr>
        <p:spPr>
          <a:xfrm>
            <a:off x="3246120" y="6497640"/>
            <a:ext cx="2895480" cy="1713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aper # (if applicable)</a:t>
            </a:r>
            <a:endParaRPr b="0" lang="en-US" sz="800" spc="-1" strike="noStrike">
              <a:solidFill>
                <a:srgbClr val="000000"/>
              </a:solidFill>
              <a:latin typeface="Times New Roman"/>
            </a:endParaRPr>
          </a:p>
        </p:txBody>
      </p:sp>
      <p:sp>
        <p:nvSpPr>
          <p:cNvPr id="177" name="PlaceHolder 4"/>
          <p:cNvSpPr>
            <a:spLocks noGrp="1"/>
          </p:cNvSpPr>
          <p:nvPr>
            <p:ph type="sldNum" idx="8"/>
          </p:nvPr>
        </p:nvSpPr>
        <p:spPr>
          <a:xfrm>
            <a:off x="6552720" y="6497640"/>
            <a:ext cx="2133720" cy="1713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15BA-CF2F-4123-8145-C9405B07260C}"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214"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E INTERNATIONAL</a:t>
            </a:r>
            <a:endParaRPr b="0" lang="en-US" sz="800" spc="-1" strike="noStrike">
              <a:solidFill>
                <a:srgbClr val="000000"/>
              </a:solidFill>
              <a:latin typeface="Arial"/>
            </a:endParaRPr>
          </a:p>
        </p:txBody>
      </p:sp>
      <p:sp>
        <p:nvSpPr>
          <p:cNvPr id="217"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18"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219" name="PlaceHolder 3"/>
          <p:cNvSpPr>
            <a:spLocks noGrp="1"/>
          </p:cNvSpPr>
          <p:nvPr>
            <p:ph type="ftr" idx="9"/>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3171 Draft</a:t>
            </a:r>
            <a:endParaRPr b="0" lang="en-US" sz="800" spc="-1" strike="noStrike">
              <a:solidFill>
                <a:srgbClr val="000000"/>
              </a:solidFill>
              <a:latin typeface="Times New Roman"/>
            </a:endParaRPr>
          </a:p>
        </p:txBody>
      </p:sp>
      <p:sp>
        <p:nvSpPr>
          <p:cNvPr id="220" name="PlaceHolder 4"/>
          <p:cNvSpPr>
            <a:spLocks noGrp="1"/>
          </p:cNvSpPr>
          <p:nvPr>
            <p:ph type="sldNum" idx="10"/>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C4F2-B54B-4DAC-A979-36F7ED51490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257"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AE INTERNATIONAL</a:t>
            </a:r>
            <a:endParaRPr b="0" lang="en-US" sz="800" spc="-1" strike="noStrike">
              <a:solidFill>
                <a:srgbClr val="000000"/>
              </a:solidFill>
              <a:latin typeface="Arial"/>
            </a:endParaRPr>
          </a:p>
        </p:txBody>
      </p:sp>
      <p:sp>
        <p:nvSpPr>
          <p:cNvPr id="26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261"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262" name="PlaceHolder 3"/>
          <p:cNvSpPr>
            <a:spLocks noGrp="1"/>
          </p:cNvSpPr>
          <p:nvPr>
            <p:ph type="ftr" idx="11"/>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263" name="PlaceHolder 4"/>
          <p:cNvSpPr>
            <a:spLocks noGrp="1"/>
          </p:cNvSpPr>
          <p:nvPr>
            <p:ph type="sldNum" idx="12"/>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6CDF-8E19-456D-B8BE-0F5558C86C1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300"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E INTERNATIONAL</a:t>
            </a:r>
            <a:endParaRPr b="0" lang="en-US" sz="800" spc="-1" strike="noStrike">
              <a:solidFill>
                <a:srgbClr val="000000"/>
              </a:solidFill>
              <a:latin typeface="Arial"/>
            </a:endParaRPr>
          </a:p>
        </p:txBody>
      </p:sp>
      <p:sp>
        <p:nvSpPr>
          <p:cNvPr id="30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04"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305" name="PlaceHolder 3"/>
          <p:cNvSpPr>
            <a:spLocks noGrp="1"/>
          </p:cNvSpPr>
          <p:nvPr>
            <p:ph type="ftr" idx="13"/>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306" name="PlaceHolder 4"/>
          <p:cNvSpPr>
            <a:spLocks noGrp="1"/>
          </p:cNvSpPr>
          <p:nvPr>
            <p:ph type="sldNum" idx="14"/>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0CC5-34F8-43F3-A943-52A568736B3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343" name="Freeform 6"/>
          <p:cNvSpPr/>
          <p:nvPr/>
        </p:nvSpPr>
        <p:spPr>
          <a:xfrm>
            <a:off x="0" y="546120"/>
            <a:ext cx="9144000" cy="6311880"/>
          </a:xfrm>
          <a:custGeom>
            <a:avLst/>
            <a:gdLst/>
            <a:ahLst/>
            <a:rect l="l" t="t" r="r" b="b"/>
            <a:pathLst>
              <a:path w="9144000" h="4733453">
                <a:moveTo>
                  <a:pt x="0" y="4733453"/>
                </a:moveTo>
                <a:lnTo>
                  <a:pt x="9144000" y="4733453"/>
                </a:lnTo>
                <a:lnTo>
                  <a:pt x="9144000" y="0"/>
                </a:lnTo>
                <a:lnTo>
                  <a:pt x="9135572" y="1327"/>
                </a:lnTo>
                <a:lnTo>
                  <a:pt x="8872396" y="350444"/>
                </a:lnTo>
                <a:lnTo>
                  <a:pt x="0" y="348905"/>
                </a:lnTo>
                <a:lnTo>
                  <a:pt x="0" y="473345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Straight Connector 7"/>
          <p:cNvSpPr/>
          <p:nvPr/>
        </p:nvSpPr>
        <p:spPr>
          <a:xfrm>
            <a:off x="457200" y="6437160"/>
            <a:ext cx="8229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TextBox 8"/>
          <p:cNvSpPr/>
          <p:nvPr/>
        </p:nvSpPr>
        <p:spPr>
          <a:xfrm>
            <a:off x="457200" y="6497640"/>
            <a:ext cx="2130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E INTERNATIONAL</a:t>
            </a:r>
            <a:endParaRPr b="0" lang="en-US" sz="800" spc="-1" strike="noStrike">
              <a:solidFill>
                <a:srgbClr val="000000"/>
              </a:solidFill>
              <a:latin typeface="Arial"/>
            </a:endParaRPr>
          </a:p>
        </p:txBody>
      </p:sp>
      <p:sp>
        <p:nvSpPr>
          <p:cNvPr id="34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sp>
        <p:nvSpPr>
          <p:cNvPr id="347" name="PlaceHolder 2"/>
          <p:cNvSpPr>
            <a:spLocks noGrp="1"/>
          </p:cNvSpPr>
          <p:nvPr>
            <p:ph type="body"/>
          </p:nvPr>
        </p:nvSpPr>
        <p:spPr>
          <a:xfrm>
            <a:off x="457200" y="1213920"/>
            <a:ext cx="8229600" cy="4876920"/>
          </a:xfrm>
          <a:prstGeom prst="rect">
            <a:avLst/>
          </a:prstGeom>
          <a:noFill/>
          <a:ln w="0">
            <a:noFill/>
          </a:ln>
        </p:spPr>
        <p:txBody>
          <a:bodyPr lIns="0" rIns="0" tIns="0" bIns="0" anchor="t">
            <a:normAutofit/>
          </a:bodyPr>
          <a:p>
            <a:pPr marL="343080" indent="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outline text format</a:t>
            </a:r>
            <a:endParaRPr b="1" lang="en-US" sz="1400" spc="-1" strike="noStrike">
              <a:solidFill>
                <a:srgbClr val="000000"/>
              </a:solidFill>
              <a:latin typeface="Arial"/>
            </a:endParaRPr>
          </a:p>
          <a:p>
            <a:pPr lvl="1"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 Outline Level</a:t>
            </a:r>
            <a:endParaRPr b="1" lang="en-US" sz="1400" spc="-1" strike="noStrike">
              <a:solidFill>
                <a:srgbClr val="000000"/>
              </a:solidFill>
              <a:latin typeface="Arial"/>
            </a:endParaRPr>
          </a:p>
          <a:p>
            <a:pPr lvl="3"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343080" indent="-343080">
              <a:spcAft>
                <a:spcPts val="4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
        <p:nvSpPr>
          <p:cNvPr id="348" name="PlaceHolder 3"/>
          <p:cNvSpPr>
            <a:spLocks noGrp="1"/>
          </p:cNvSpPr>
          <p:nvPr>
            <p:ph type="ftr" idx="15"/>
          </p:nvPr>
        </p:nvSpPr>
        <p:spPr>
          <a:xfrm>
            <a:off x="3246120" y="6497640"/>
            <a:ext cx="2895480" cy="17136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per # (if applicable)</a:t>
            </a:r>
            <a:endParaRPr b="0" lang="en-US" sz="800" spc="-1" strike="noStrike">
              <a:solidFill>
                <a:srgbClr val="000000"/>
              </a:solidFill>
              <a:latin typeface="Times New Roman"/>
            </a:endParaRPr>
          </a:p>
        </p:txBody>
      </p:sp>
      <p:sp>
        <p:nvSpPr>
          <p:cNvPr id="349" name="PlaceHolder 4"/>
          <p:cNvSpPr>
            <a:spLocks noGrp="1"/>
          </p:cNvSpPr>
          <p:nvPr>
            <p:ph type="sldNum" idx="16"/>
          </p:nvPr>
        </p:nvSpPr>
        <p:spPr>
          <a:xfrm>
            <a:off x="6552720" y="6497640"/>
            <a:ext cx="2133720" cy="17136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5CE0-1C50-4CDD-92A0-3736A2162F9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195"/>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926640"/>
            <a:ext cx="7736040" cy="1676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ING AUTOMATED DRIVING SYSTEMS - DEDICATED VEHICLES (ADS-DV) PASSENGER ISSUES FOR PERSONS WITH DISABILITIES </a:t>
            </a:r>
            <a:br>
              <a:rPr sz="3200"/>
            </a:br>
            <a:r>
              <a:rPr b="1" lang="en-US" sz="3200" spc="-1" strike="noStrike">
                <a:solidFill>
                  <a:srgbClr val="ffffff"/>
                </a:solidFill>
                <a:latin typeface="Arial"/>
              </a:rPr>
              <a:t>(SAE J3171 )</a:t>
            </a:r>
            <a:endParaRPr b="1" lang="en-US" sz="3200" spc="-1" strike="noStrike">
              <a:solidFill>
                <a:srgbClr val="ffffff"/>
              </a:solidFill>
              <a:latin typeface="Arial"/>
            </a:endParaRPr>
          </a:p>
        </p:txBody>
      </p:sp>
      <p:sp>
        <p:nvSpPr>
          <p:cNvPr id="566" name="PlaceHolder 2"/>
          <p:cNvSpPr>
            <a:spLocks noGrp="1"/>
          </p:cNvSpPr>
          <p:nvPr>
            <p:ph/>
          </p:nvPr>
        </p:nvSpPr>
        <p:spPr>
          <a:xfrm>
            <a:off x="685440" y="2679480"/>
            <a:ext cx="7731000" cy="2577960"/>
          </a:xfrm>
          <a:prstGeom prst="rect">
            <a:avLst/>
          </a:prstGeom>
          <a:noFill/>
          <a:ln w="0">
            <a:noFill/>
          </a:ln>
        </p:spPr>
        <p:txBody>
          <a:bodyPr lIns="0" rIns="0" tIns="0" bIns="0" anchor="t">
            <a:normAutofit/>
          </a:bodyPr>
          <a:p>
            <a:pPr lvl="1"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becca A. Grier, Ph.D. </a:t>
            </a:r>
            <a:endParaRPr b="0" lang="en-US" sz="2300" spc="-1" strike="noStrike">
              <a:solidFill>
                <a:srgbClr val="000000"/>
              </a:solidFill>
              <a:latin typeface="Arial"/>
            </a:endParaRPr>
          </a:p>
          <a:p>
            <a:pPr lvl="1"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ord AV LLC</a:t>
            </a:r>
            <a:endParaRPr b="0" lang="en-US" sz="2300" spc="-1" strike="noStrike">
              <a:solidFill>
                <a:srgbClr val="000000"/>
              </a:solidFill>
              <a:latin typeface="Arial"/>
            </a:endParaRPr>
          </a:p>
          <a:p>
            <a:pPr lvl="1"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67" name="TextBox 1"/>
          <p:cNvSpPr/>
          <p:nvPr/>
        </p:nvSpPr>
        <p:spPr>
          <a:xfrm>
            <a:off x="4800600" y="3962520"/>
            <a:ext cx="3733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entation is an overview of SAE J3171 –an information report written by a volunteer task force. This is not work done by Ford Motor Company or Ford AV LL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457200" y="1236240"/>
            <a:ext cx="8229600" cy="4876920"/>
          </a:xfrm>
          <a:prstGeom prst="rect">
            <a:avLst/>
          </a:prstGeom>
          <a:noFill/>
          <a:ln w="0">
            <a:noFill/>
          </a:ln>
        </p:spPr>
        <p:txBody>
          <a:bodyPr lIns="0" rIns="0" tIns="0" bIns="0" anchor="t">
            <a:normAutofit/>
          </a:bodyPr>
          <a:p>
            <a:pPr marL="343080" indent="-34308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ion 508 of the Rehabilitation Act of 1973 </a:t>
            </a:r>
            <a:endParaRPr b="1" lang="en-US" sz="2000" spc="-1" strike="noStrike">
              <a:solidFill>
                <a:srgbClr val="000000"/>
              </a:solidFill>
              <a:latin typeface="Arial"/>
            </a:endParaRPr>
          </a:p>
          <a:p>
            <a:pPr marL="343080" indent="-34308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Content Accessibility Guidelines (WCAG) – by the World Wide Web Consortium (W3C)</a:t>
            </a:r>
            <a:endParaRPr b="1" lang="en-US" sz="2000" spc="-1" strike="noStrike">
              <a:solidFill>
                <a:srgbClr val="000000"/>
              </a:solidFill>
              <a:latin typeface="Arial"/>
            </a:endParaRPr>
          </a:p>
        </p:txBody>
      </p:sp>
      <p:sp>
        <p:nvSpPr>
          <p:cNvPr id="61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ccessible HMI Standards</a:t>
            </a:r>
            <a:endParaRPr b="1" lang="en-US" sz="2200" spc="-1" strike="noStrike">
              <a:solidFill>
                <a:srgbClr val="ffffff"/>
              </a:solidFill>
              <a:latin typeface="Arial"/>
            </a:endParaRPr>
          </a:p>
        </p:txBody>
      </p:sp>
      <p:sp>
        <p:nvSpPr>
          <p:cNvPr id="611"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612"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E9C3-D8AE-432D-B725-A6BD48178CE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ganization of Design Guidance/Issues</a:t>
            </a:r>
            <a:endParaRPr b="1" lang="en-US" sz="2200" spc="-1" strike="noStrike">
              <a:solidFill>
                <a:srgbClr val="ffffff"/>
              </a:solidFill>
              <a:latin typeface="Arial"/>
            </a:endParaRPr>
          </a:p>
        </p:txBody>
      </p:sp>
      <p:sp>
        <p:nvSpPr>
          <p:cNvPr id="614"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615"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D19C-083B-4C6F-BE24-47CACEC9932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16" name=""/>
          <p:cNvSpPr txBox="1"/>
          <p:nvPr/>
        </p:nvSpPr>
        <p:spPr>
          <a:xfrm>
            <a:off x="457200" y="1213920"/>
            <a:ext cx="822960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a:ea typeface="Arial"/>
              </a:rPr>
              <a:t>Difficulty of Classifying Disabilities</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a:rPr>
              <a:t>General Design Guidance</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Issues for ADS-DVs</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s with Visual Impairments</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eled Mobility Device users</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s with Other Disabilities</a:t>
            </a:r>
            <a:endParaRPr b="0" lang="en-US" sz="2000" spc="-1" strike="noStrike">
              <a:solidFill>
                <a:srgbClr val="000000"/>
              </a:solidFill>
              <a:latin typeface="Arial"/>
            </a:endParaRPr>
          </a:p>
          <a:p>
            <a:pPr lvl="4" marL="51120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04920" y="1236240"/>
            <a:ext cx="822960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n &amp; Off-Boarding</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yfinding </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entification of ADS-DV</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rrier free path</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Vehicle Communications</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fidence going to right location in most efficient way</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ergency scenarios – e.g., </a:t>
            </a:r>
            <a:r>
              <a:rPr b="0" lang="en-US" sz="1800" spc="-1" strike="noStrike">
                <a:solidFill>
                  <a:srgbClr val="000000"/>
                </a:solidFill>
                <a:latin typeface="Arial"/>
                <a:ea typeface="Arial"/>
              </a:rPr>
              <a:t>support decision to stay within or exit vehicle</a:t>
            </a:r>
            <a:endParaRPr b="0" lang="en-US" sz="1800" spc="-1" strike="noStrike">
              <a:solidFill>
                <a:srgbClr val="000000"/>
              </a:solidFill>
              <a:latin typeface="Arial"/>
            </a:endParaRPr>
          </a:p>
        </p:txBody>
      </p:sp>
      <p:sp>
        <p:nvSpPr>
          <p:cNvPr id="61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ssues for those with Visual Impairments</a:t>
            </a:r>
            <a:endParaRPr b="1" lang="en-US" sz="2200" spc="-1" strike="noStrike">
              <a:solidFill>
                <a:srgbClr val="ffffff"/>
              </a:solidFill>
              <a:latin typeface="Arial"/>
            </a:endParaRPr>
          </a:p>
        </p:txBody>
      </p:sp>
      <p:sp>
        <p:nvSpPr>
          <p:cNvPr id="619"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620"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4CEE-9AC9-44FF-9D3E-43E51B4E2AE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04560" y="1082520"/>
            <a:ext cx="6933960" cy="5088240"/>
          </a:xfrm>
          <a:prstGeom prst="rect">
            <a:avLst/>
          </a:prstGeom>
          <a:noFill/>
          <a:ln w="0">
            <a:noFill/>
          </a:ln>
        </p:spPr>
        <p:txBody>
          <a:bodyPr lIns="0" rIns="0" tIns="0" bIns="0" anchor="t">
            <a:normAutofit fontScale="98000"/>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lly</a:t>
            </a:r>
            <a:endParaRPr b="1"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 always main entrance</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velling downhill easier than uphill</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r Those Who Can Transfer Themselves to Vehicle Seat</a:t>
            </a:r>
            <a:endParaRPr b="1"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ft wide space parallel to vehicle without barrier (e.g., curb, other vehicle)</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at height supports transfer</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t location</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r Those Who Remain within WMD</a:t>
            </a:r>
            <a:endParaRPr b="1"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ze &amp; location (rear or side) of ramp/chair lift is considered</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ace to maneuver WMD to enter ramp/lift is provided</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rection of approach to vehicle/destination is     considered</a:t>
            </a:r>
            <a:endParaRPr b="0" lang="en-US" sz="2000" spc="-1" strike="noStrike">
              <a:solidFill>
                <a:srgbClr val="000000"/>
              </a:solidFill>
              <a:latin typeface="Arial"/>
            </a:endParaRPr>
          </a:p>
          <a:p>
            <a:pPr lvl="2" marL="338760" indent="-3355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eeled Mobility Device (WMD)  Users: </a:t>
            </a:r>
            <a:br>
              <a:rPr sz="2200"/>
            </a:br>
            <a:r>
              <a:rPr b="1" lang="en-US" sz="2200" spc="-1" strike="noStrike">
                <a:solidFill>
                  <a:srgbClr val="ffffff"/>
                </a:solidFill>
                <a:latin typeface="Arial"/>
              </a:rPr>
              <a:t>Accessible On &amp; Off Boarding Location</a:t>
            </a:r>
            <a:endParaRPr b="1" lang="en-US" sz="2200" spc="-1" strike="noStrike">
              <a:solidFill>
                <a:srgbClr val="ffffff"/>
              </a:solidFill>
              <a:latin typeface="Arial"/>
            </a:endParaRPr>
          </a:p>
        </p:txBody>
      </p:sp>
      <p:sp>
        <p:nvSpPr>
          <p:cNvPr id="623"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624"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1E27-D6D0-43D7-83AA-C623A76A911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625" name="Picture 5" descr=""/>
          <p:cNvPicPr/>
          <p:nvPr/>
        </p:nvPicPr>
        <p:blipFill>
          <a:blip r:embed="rId1"/>
          <a:srcRect l="33001" t="9094" r="25401" b="14815"/>
          <a:stretch/>
        </p:blipFill>
        <p:spPr>
          <a:xfrm>
            <a:off x="7238880" y="2262240"/>
            <a:ext cx="1851120" cy="1903320"/>
          </a:xfrm>
          <a:prstGeom prst="rect">
            <a:avLst/>
          </a:prstGeom>
          <a:ln w="0">
            <a:noFill/>
          </a:ln>
        </p:spPr>
      </p:pic>
      <p:pic>
        <p:nvPicPr>
          <p:cNvPr id="626" name="Picture 4" descr=""/>
          <p:cNvPicPr/>
          <p:nvPr/>
        </p:nvPicPr>
        <p:blipFill>
          <a:blip r:embed="rId2"/>
          <a:srcRect l="18750" t="10000" r="0" b="0"/>
          <a:stretch/>
        </p:blipFill>
        <p:spPr>
          <a:xfrm>
            <a:off x="6796080" y="4495680"/>
            <a:ext cx="2293920" cy="190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04920" y="1236240"/>
            <a:ext cx="853416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Mobility Disabilities</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rt distance to accessible entrance of origin/destination</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gotiating curbs is challenging for some</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Sensory Disabilities</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in-vehicle communication particularly for emergencies should be perceptible by all (i.e., hearing impairments; “deaf &amp; blind”)</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 overwhelming to those with sensory processing disorders (i.e., autism spectrum)</a:t>
            </a:r>
            <a:endParaRPr b="0" lang="en-US" sz="2000" spc="-1" strike="noStrike">
              <a:solidFill>
                <a:srgbClr val="000000"/>
              </a:solidFill>
              <a:latin typeface="Arial"/>
            </a:endParaRPr>
          </a:p>
          <a:p>
            <a:pPr lvl="2" marL="345960" indent="-34272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ssues for those with Other Disabilities</a:t>
            </a:r>
            <a:endParaRPr b="1" lang="en-US" sz="2200" spc="-1" strike="noStrike">
              <a:solidFill>
                <a:srgbClr val="ffffff"/>
              </a:solidFill>
              <a:latin typeface="Arial"/>
            </a:endParaRPr>
          </a:p>
        </p:txBody>
      </p:sp>
      <p:sp>
        <p:nvSpPr>
          <p:cNvPr id="629"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630"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E6E7-B028-4C89-88A2-0EEE62C2FC1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57200" y="1213920"/>
            <a:ext cx="8229600" cy="4876920"/>
          </a:xfrm>
          <a:prstGeom prst="rect">
            <a:avLst/>
          </a:prstGeom>
          <a:noFill/>
          <a:ln w="0">
            <a:noFill/>
          </a:ln>
        </p:spPr>
        <p:txBody>
          <a:bodyPr lIns="0" rIns="0" tIns="0" bIns="0" anchor="t">
            <a:normAutofit/>
          </a:bodyPr>
          <a:p>
            <a:pP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nly v</a:t>
            </a:r>
            <a:r>
              <a:rPr b="1" i="1" lang="en-US" sz="2000" spc="-1" strike="noStrike" u="sng">
                <a:solidFill>
                  <a:srgbClr val="000000"/>
                </a:solidFill>
                <a:uFillTx/>
                <a:latin typeface="Arial"/>
                <a:ea typeface="Arial"/>
              </a:rPr>
              <a:t>ehicle design issues unique </a:t>
            </a:r>
            <a:r>
              <a:rPr b="1" lang="en-US" sz="2000" spc="-1" strike="noStrike">
                <a:solidFill>
                  <a:srgbClr val="000000"/>
                </a:solidFill>
                <a:latin typeface="Arial"/>
                <a:ea typeface="Arial"/>
              </a:rPr>
              <a:t>to Level 4 &amp; 5 ADS-DVs (i.e., no steering wheel/ pedals for human driver)</a:t>
            </a:r>
            <a:endParaRPr b="1" lang="en-US" sz="2000" spc="-1" strike="noStrike">
              <a:solidFill>
                <a:srgbClr val="000000"/>
              </a:solidFill>
              <a:latin typeface="Arial"/>
            </a:endParaRPr>
          </a:p>
          <a:p>
            <a:pPr lvl="2" marL="341280" indent="-341280">
              <a:spcBef>
                <a:spcPts val="6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E is a technical/engineering organization – not advocacy/policy/law</a:t>
            </a:r>
            <a:endParaRPr b="0" lang="en-US" sz="2000" spc="-1" strike="noStrike">
              <a:solidFill>
                <a:srgbClr val="000000"/>
              </a:solidFill>
              <a:latin typeface="Arial"/>
            </a:endParaRPr>
          </a:p>
          <a:p>
            <a:pPr lvl="2" marL="341280" indent="-341280">
              <a:spcBef>
                <a:spcPts val="6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rget audience: Vehicle manufacturers – not infrastructure etc.</a:t>
            </a:r>
            <a:endParaRPr b="0" lang="en-US" sz="2000" spc="-1" strike="noStrike">
              <a:solidFill>
                <a:srgbClr val="000000"/>
              </a:solidFill>
              <a:latin typeface="Arial"/>
            </a:endParaRPr>
          </a:p>
          <a:p>
            <a:pPr lvl="2" marL="341280" indent="-341280">
              <a:spcBef>
                <a:spcPts val="6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sues unique to ADS-DVs - not wheelchair securements, lifts, etc.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s these are covered by </a:t>
            </a:r>
            <a:r>
              <a:rPr b="0" lang="en-US" sz="1800" spc="-1" strike="noStrike">
                <a:solidFill>
                  <a:srgbClr val="000000"/>
                </a:solidFill>
                <a:latin typeface="Arial"/>
                <a:ea typeface="Arial"/>
              </a:rPr>
              <a:t>J1725, J2092, J2093, &amp; J2249</a:t>
            </a:r>
            <a:endParaRPr b="0" lang="en-US" sz="1800" spc="-1" strike="noStrike">
              <a:solidFill>
                <a:srgbClr val="000000"/>
              </a:solidFill>
              <a:latin typeface="Arial"/>
            </a:endParaRPr>
          </a:p>
          <a:p>
            <a:pPr lvl="2" marL="341280" indent="-341280">
              <a:spcBef>
                <a:spcPts val="601"/>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ocused on road worthy vehicles in a fleet-based shared mobility</a:t>
            </a:r>
            <a:endParaRPr b="1" lang="en-US" sz="2000" spc="-1" strike="noStrike">
              <a:solidFill>
                <a:srgbClr val="000000"/>
              </a:solidFill>
              <a:latin typeface="Arial"/>
            </a:endParaRPr>
          </a:p>
          <a:p>
            <a:pP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ormation report on issues to be considered – not a standard</a:t>
            </a:r>
            <a:endParaRPr b="1" lang="en-US" sz="2000" spc="-1" strike="noStrike">
              <a:solidFill>
                <a:srgbClr val="000000"/>
              </a:solidFill>
              <a:latin typeface="Arial"/>
            </a:endParaRPr>
          </a:p>
        </p:txBody>
      </p:sp>
      <p:sp>
        <p:nvSpPr>
          <p:cNvPr id="569"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ed Scope</a:t>
            </a:r>
            <a:endParaRPr b="1" lang="en-US" sz="2200" spc="-1" strike="noStrike">
              <a:solidFill>
                <a:srgbClr val="ffffff"/>
              </a:solidFill>
              <a:latin typeface="Arial"/>
            </a:endParaRPr>
          </a:p>
        </p:txBody>
      </p:sp>
      <p:sp>
        <p:nvSpPr>
          <p:cNvPr id="570"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571"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16F1-015C-4490-8858-28ECB99C995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444240" y="1142640"/>
            <a:ext cx="848988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view of Driver’s License Requirements</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state requires that individuals pass a knowledge test, a vision test, &amp; a skills test to obtain a driver’s license. </a:t>
            </a:r>
            <a:endParaRPr b="0" lang="en-US" sz="18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eting these requirements is unlikely for individuals with certain cognitive, and/or vision disabilities.</a:t>
            </a:r>
            <a:r>
              <a:rPr b="0" lang="en-US" sz="2000" spc="-1" strike="noStrike">
                <a:solidFill>
                  <a:srgbClr val="000000"/>
                </a:solidFill>
                <a:latin typeface="Arial"/>
                <a:ea typeface="Arial"/>
              </a:rPr>
              <a:t> </a:t>
            </a:r>
            <a:r>
              <a:rPr b="0" lang="en-US" sz="1400" spc="-1" strike="noStrike">
                <a:solidFill>
                  <a:srgbClr val="000000"/>
                </a:solidFill>
                <a:latin typeface="Arial"/>
                <a:ea typeface="Arial"/>
              </a:rPr>
              <a:t>This was the initial focus – but further research broadened scope.</a:t>
            </a:r>
            <a:endParaRPr b="0" lang="en-US" sz="14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terature Review</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ork currently being done to involve PWDs in design of technology of any kind </a:t>
            </a:r>
            <a:endParaRPr b="0" lang="en-US" sz="18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ational best practices in accessible transportation</a:t>
            </a:r>
            <a:endParaRPr b="0" lang="en-US" sz="18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keholder Interviews</a:t>
            </a:r>
            <a:endParaRPr b="1" lang="en-US" sz="2000" spc="-1" strike="noStrike">
              <a:solidFill>
                <a:srgbClr val="000000"/>
              </a:solidFill>
              <a:latin typeface="Arial"/>
            </a:endParaRPr>
          </a:p>
        </p:txBody>
      </p:sp>
      <p:sp>
        <p:nvSpPr>
          <p:cNvPr id="573"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thod</a:t>
            </a:r>
            <a:endParaRPr b="1" lang="en-US" sz="2200" spc="-1" strike="noStrike">
              <a:solidFill>
                <a:srgbClr val="ffffff"/>
              </a:solidFill>
              <a:latin typeface="Arial"/>
            </a:endParaRPr>
          </a:p>
        </p:txBody>
      </p:sp>
      <p:sp>
        <p:nvSpPr>
          <p:cNvPr id="574"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575"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E3BE-FBE0-49A4-B2A4-094458BC83F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76" name="TextBox 5"/>
          <p:cNvSpPr/>
          <p:nvPr/>
        </p:nvSpPr>
        <p:spPr>
          <a:xfrm>
            <a:off x="5181480" y="18252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 person with disability</a:t>
            </a:r>
            <a:endParaRPr b="0" lang="en-US" sz="1800" spc="-1" strike="noStrike">
              <a:solidFill>
                <a:srgbClr val="000000"/>
              </a:solidFill>
              <a:latin typeface="Arial"/>
            </a:endParaRPr>
          </a:p>
        </p:txBody>
      </p:sp>
      <p:graphicFrame>
        <p:nvGraphicFramePr>
          <p:cNvPr id="577" name=""/>
          <p:cNvGraphicFramePr/>
          <p:nvPr/>
        </p:nvGraphicFramePr>
        <p:xfrm>
          <a:off x="444600" y="4114800"/>
          <a:ext cx="8318520" cy="2352600"/>
        </p:xfrm>
        <a:graphic>
          <a:graphicData uri="http://schemas.openxmlformats.org/drawingml/2006/table">
            <a:tbl>
              <a:tblPr/>
              <a:tblGrid>
                <a:gridCol w="3289320"/>
                <a:gridCol w="5029200"/>
              </a:tblGrid>
              <a:tr h="371520">
                <a:tc>
                  <a:txBody>
                    <a:bodyPr lIns="90000" rIns="90000" anchor="t">
                      <a:noAutofit/>
                    </a:bodyPr>
                    <a:p>
                      <a:pPr lvl="2"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W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dentify barriers &amp; workaroun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r>
              <a:tr h="579240">
                <a:tc>
                  <a:txBody>
                    <a:bodyPr lIns="90000" rIns="90000" anchor="t">
                      <a:noAutofit/>
                    </a:bodyPr>
                    <a:p>
                      <a:pPr lvl="2"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ocates &amp; others who work with PW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dentify barriers &amp; workaroun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r>
              <a:tr h="578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perts in design for PW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dentify existing knowledge in universal design that could be applied to design of ADS-DV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r>
              <a:tr h="823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overnment/policy experts knowledgeable about transportation and/or PW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dentify policy measures that may facilitate ADS-DV passenger accessibility as it relates to certain PWD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72">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2">
                                            <p:txEl>
                                              <p:pRg st="5" end="5"/>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72">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ganization of Design Guidance/Issues</a:t>
            </a:r>
            <a:endParaRPr b="1" lang="en-US" sz="2200" spc="-1" strike="noStrike">
              <a:solidFill>
                <a:srgbClr val="ffffff"/>
              </a:solidFill>
              <a:latin typeface="Arial"/>
            </a:endParaRPr>
          </a:p>
        </p:txBody>
      </p:sp>
      <p:sp>
        <p:nvSpPr>
          <p:cNvPr id="579"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580"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26498-364F-4766-873C-93E6D8FB1DD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81" name=""/>
          <p:cNvSpPr txBox="1"/>
          <p:nvPr/>
        </p:nvSpPr>
        <p:spPr>
          <a:xfrm>
            <a:off x="457200" y="1213920"/>
            <a:ext cx="822960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iculty of Classifying Disabilities</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esign Guidance</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Guidance for ADS-DVs</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4" marL="51120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fficulty Classifying People With Disabilities</a:t>
            </a:r>
            <a:endParaRPr b="1" lang="en-US" sz="2200" spc="-1" strike="noStrike">
              <a:solidFill>
                <a:srgbClr val="ffffff"/>
              </a:solidFill>
              <a:latin typeface="Arial"/>
            </a:endParaRPr>
          </a:p>
        </p:txBody>
      </p:sp>
      <p:sp>
        <p:nvSpPr>
          <p:cNvPr id="583"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J3171 Draft</a:t>
            </a:r>
            <a:endParaRPr b="0" lang="en-US" sz="800" spc="-1" strike="noStrike">
              <a:solidFill>
                <a:srgbClr val="000000"/>
              </a:solidFill>
              <a:latin typeface="Arial"/>
            </a:endParaRPr>
          </a:p>
        </p:txBody>
      </p:sp>
      <p:sp>
        <p:nvSpPr>
          <p:cNvPr id="584"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7DAB-41D9-4DDC-A7FB-46E09D096CF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85" name=""/>
          <p:cNvSpPr txBox="1"/>
          <p:nvPr/>
        </p:nvSpPr>
        <p:spPr>
          <a:xfrm>
            <a:off x="457200" y="1213920"/>
            <a:ext cx="822960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ditional Classification: Portion of body impacted &amp; severity of that impact</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ever doesn’t address individual differences</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s disability is a deficiency</a:t>
            </a: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O’s International Classification of Functioning, Disability &amp; Health: </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ability is only a problem when the individual tries to function in a world that has barriers</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eat deal of individual differences with regard to what is a barrier within a traditionally classified disability</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ification of the disabilities can only be done in relation to an activity and its barriers</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moving barriers – removes dis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85">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8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85">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85">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85">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85">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85">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ganization of Design Guidance/Issues</a:t>
            </a:r>
            <a:endParaRPr b="1" lang="en-US" sz="2200" spc="-1" strike="noStrike">
              <a:solidFill>
                <a:srgbClr val="ffffff"/>
              </a:solidFill>
              <a:latin typeface="Arial"/>
            </a:endParaRPr>
          </a:p>
        </p:txBody>
      </p:sp>
      <p:sp>
        <p:nvSpPr>
          <p:cNvPr id="587"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588"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27A5-4C97-4100-9AE5-181BB9E7A8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89" name=""/>
          <p:cNvSpPr txBox="1"/>
          <p:nvPr/>
        </p:nvSpPr>
        <p:spPr>
          <a:xfrm>
            <a:off x="457200" y="1213920"/>
            <a:ext cx="822960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a:ea typeface="Arial"/>
              </a:rPr>
              <a:t>Difficulty of Classifying Disabilities</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esign Guidance</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sidering Barriers in Design</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versal Design Principles</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als of Universal Design </a:t>
            </a:r>
            <a:endParaRPr b="0"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ible HMI Standards</a:t>
            </a: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ADS-DV Issues</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4" marL="51120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sidering Barriers in Design</a:t>
            </a:r>
            <a:endParaRPr b="1" lang="en-US" sz="2200" spc="-1" strike="noStrike">
              <a:solidFill>
                <a:srgbClr val="ffffff"/>
              </a:solidFill>
              <a:latin typeface="Arial"/>
            </a:endParaRPr>
          </a:p>
        </p:txBody>
      </p:sp>
      <p:sp>
        <p:nvSpPr>
          <p:cNvPr id="591"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592"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B7EB-C623-46BB-98C7-30EA5F9F89E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593" name=""/>
          <p:cNvSpPr txBox="1"/>
          <p:nvPr/>
        </p:nvSpPr>
        <p:spPr>
          <a:xfrm>
            <a:off x="304920" y="1236240"/>
            <a:ext cx="8229600" cy="4876920"/>
          </a:xfrm>
          <a:prstGeom prst="rect">
            <a:avLst/>
          </a:prstGeom>
          <a:noFill/>
          <a:ln w="0">
            <a:noFill/>
          </a:ln>
        </p:spPr>
        <p:txBody>
          <a:bodyPr lIns="0" rIns="0" tIns="0" bIns="0" anchor="t">
            <a:norm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though ADS-DV may remove barrier of Driver’s license – design of vehicles could add in new barriers</a:t>
            </a:r>
            <a:endParaRPr b="1"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lly makes things more user friendly to all</a:t>
            </a:r>
            <a:endParaRPr b="1" lang="en-US" sz="2000" spc="-1" strike="noStrike">
              <a:solidFill>
                <a:srgbClr val="000000"/>
              </a:solidFill>
              <a:latin typeface="Arial"/>
            </a:endParaRPr>
          </a:p>
          <a:p>
            <a:pPr lvl="2" marL="345960" indent="-3427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curb cutouts great for people with strollers/ luggage</a:t>
            </a:r>
            <a:endParaRPr b="0" lang="en-US" sz="20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chnology that is highly user-friendly to PWDs have accessibility settings that allow persons to customize their experie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versal Design Principles</a:t>
            </a:r>
            <a:endParaRPr b="1" lang="en-US" sz="2200" spc="-1" strike="noStrike">
              <a:solidFill>
                <a:srgbClr val="ffffff"/>
              </a:solidFill>
              <a:latin typeface="Arial"/>
            </a:endParaRPr>
          </a:p>
        </p:txBody>
      </p:sp>
      <p:sp>
        <p:nvSpPr>
          <p:cNvPr id="595"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596"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C49E-F6AD-4B76-BAEF-60E55BCCB75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graphicFrame>
        <p:nvGraphicFramePr>
          <p:cNvPr id="597" name=""/>
          <p:cNvGraphicFramePr/>
          <p:nvPr/>
        </p:nvGraphicFramePr>
        <p:xfrm>
          <a:off x="228600" y="1371600"/>
          <a:ext cx="8717040" cy="4581360"/>
        </p:xfrm>
        <a:graphic>
          <a:graphicData uri="http://schemas.openxmlformats.org/drawingml/2006/table">
            <a:tbl>
              <a:tblPr/>
              <a:tblGrid>
                <a:gridCol w="4145040"/>
                <a:gridCol w="4572000"/>
              </a:tblGrid>
              <a:tr h="577800">
                <a:tc>
                  <a:txBody>
                    <a:bodyPr anchor="ctr">
                      <a:no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Arial"/>
                        </a:rPr>
                        <a:t>Equitable us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user experience/safety for everyon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r>
              <a:tr h="685800">
                <a:tc>
                  <a:txBody>
                    <a:bodyPr anchor="ctr">
                      <a:no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Arial"/>
                        </a:rPr>
                        <a:t>Flexibility in us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s can be performed by those with differing abilitie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r>
              <a:tr h="577800">
                <a:tc>
                  <a:txBody>
                    <a:bodyPr anchor="ctr">
                      <a:no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Arial"/>
                        </a:rPr>
                        <a:t>Simple &amp; intuitive us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make me think; KIS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r>
              <a:tr h="684360">
                <a:tc>
                  <a:txBody>
                    <a:bodyPr anchor="ctr">
                      <a:no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Arial"/>
                        </a:rPr>
                        <a:t>Perceptible information</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odal; Considers impact of environment (sun, noise)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r>
              <a:tr h="685800">
                <a:tc>
                  <a:txBody>
                    <a:bodyPr anchor="ctr">
                      <a:no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Arial"/>
                        </a:rPr>
                        <a:t>Tolerance for error</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mistakes; Makes error recovery easy</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r>
              <a:tr h="684000">
                <a:tc>
                  <a:txBody>
                    <a:bodyPr anchor="ctr">
                      <a:no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Arial"/>
                        </a:rPr>
                        <a:t>Low physical effor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ble without contortion or exertion; by either hand</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0fb"/>
                    </a:solidFill>
                  </a:tcPr>
                </a:tc>
              </a:tr>
              <a:tr h="685800">
                <a:tc>
                  <a:txBody>
                    <a:bodyPr anchor="ctr">
                      <a:no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Arial"/>
                        </a:rPr>
                        <a:t>Size &amp; shape for approach &amp; us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le by different body shapes, sizes, &amp; productivity tool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cbdff7"/>
                    </a:solidFill>
                  </a:tcPr>
                </a:tc>
              </a:tr>
            </a:tbl>
          </a:graphicData>
        </a:graphic>
      </p:graphicFrame>
      <p:sp>
        <p:nvSpPr>
          <p:cNvPr id="598" name="TextBox 7"/>
          <p:cNvSpPr/>
          <p:nvPr/>
        </p:nvSpPr>
        <p:spPr>
          <a:xfrm>
            <a:off x="4668840" y="57240"/>
            <a:ext cx="4745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ll et al (1997) paid for by National Institute for Disability &amp; Rehabilitation research under the U.S. Department of Educ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837720" y="1305000"/>
            <a:ext cx="8153640" cy="5332320"/>
          </a:xfrm>
          <a:prstGeom prst="rect">
            <a:avLst/>
          </a:prstGeom>
          <a:noFill/>
          <a:ln w="0">
            <a:noFill/>
          </a:ln>
        </p:spPr>
        <p:txBody>
          <a:bodyPr lIns="0" rIns="0" tIns="0" bIns="0" anchor="t">
            <a:normAutofit/>
          </a:bodyPr>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 fit: </a:t>
            </a:r>
            <a:r>
              <a:rPr b="0" lang="en-US" sz="1400" spc="-1" strike="noStrike">
                <a:solidFill>
                  <a:srgbClr val="000000"/>
                </a:solidFill>
                <a:latin typeface="Arial"/>
              </a:rPr>
              <a:t>accommodating a wide range of body sizes and abilities. This means ensuring the participants in tests include the 5</a:t>
            </a:r>
            <a:r>
              <a:rPr b="0" lang="en-US" sz="1400" spc="-1" strike="noStrike" baseline="30000">
                <a:solidFill>
                  <a:srgbClr val="000000"/>
                </a:solidFill>
                <a:latin typeface="Arial"/>
              </a:rPr>
              <a:t>th</a:t>
            </a:r>
            <a:r>
              <a:rPr b="0" lang="en-US" sz="1400" spc="-1" strike="noStrike">
                <a:solidFill>
                  <a:srgbClr val="000000"/>
                </a:solidFill>
                <a:latin typeface="Arial"/>
              </a:rPr>
              <a:t> percentile female to the 95</a:t>
            </a:r>
            <a:r>
              <a:rPr b="0" lang="en-US" sz="1400" spc="-1" strike="noStrike" baseline="30000">
                <a:solidFill>
                  <a:srgbClr val="000000"/>
                </a:solidFill>
                <a:latin typeface="Arial"/>
              </a:rPr>
              <a:t>th</a:t>
            </a:r>
            <a:r>
              <a:rPr b="0" lang="en-US" sz="1400" spc="-1" strike="noStrike">
                <a:solidFill>
                  <a:srgbClr val="000000"/>
                </a:solidFill>
                <a:latin typeface="Arial"/>
              </a:rPr>
              <a:t> percentile male as well as people who have various physical disabilities that could affect how they interact with an ADS-DV. </a:t>
            </a: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fort: </a:t>
            </a:r>
            <a:r>
              <a:rPr b="0" lang="en-US" sz="1400" spc="-1" strike="noStrike">
                <a:solidFill>
                  <a:srgbClr val="000000"/>
                </a:solidFill>
                <a:latin typeface="Arial"/>
              </a:rPr>
              <a:t>keeping demands within desirable limits of body function and perception. This means ensuring the participants in tests include people with various sensory and physical disabilities to evaluate if they can interact successfully with the ADS-DV.</a:t>
            </a: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areness: </a:t>
            </a:r>
            <a:r>
              <a:rPr b="0" lang="en-US" sz="1400" spc="-1" strike="noStrike">
                <a:solidFill>
                  <a:srgbClr val="000000"/>
                </a:solidFill>
                <a:latin typeface="Arial"/>
              </a:rPr>
              <a:t>ensuring that critical information for use is easily perceived. This means including people with various sensory disabilities as participants in product tests to ensure that they can perceive all critical information.</a:t>
            </a: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ing: </a:t>
            </a:r>
            <a:r>
              <a:rPr b="0" lang="en-US" sz="1400" spc="-1" strike="noStrike">
                <a:solidFill>
                  <a:srgbClr val="000000"/>
                </a:solidFill>
                <a:latin typeface="Arial"/>
              </a:rPr>
              <a:t>making methods of operation and use intuitive, clear and unambiguous. This means ensuring the participants in tests include people with mild cognitive impairments to evaluate if the system is easy to use. </a:t>
            </a: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alization: </a:t>
            </a:r>
            <a:r>
              <a:rPr b="0" lang="en-US" sz="1400" spc="-1" strike="noStrike">
                <a:solidFill>
                  <a:srgbClr val="000000"/>
                </a:solidFill>
                <a:latin typeface="Arial"/>
              </a:rPr>
              <a:t>incorporating opportunities for choice and the expression of individual preferences (i.e., customization of experience)</a:t>
            </a:r>
            <a:endParaRPr b="1" lang="en-US" sz="1400" spc="-1" strike="noStrike">
              <a:solidFill>
                <a:srgbClr val="000000"/>
              </a:solidFill>
              <a:latin typeface="Arial"/>
            </a:endParaRPr>
          </a:p>
          <a:p>
            <a:pPr marL="514440" indent="-514440">
              <a:spcAft>
                <a:spcPts val="4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514440" indent="-5144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ness, Social Integration, &amp; Cultural Appropriateness were not included as they were outside of the scope of the document </a:t>
            </a:r>
            <a:endParaRPr b="1" lang="en-US" sz="1400" spc="-1" strike="noStrike">
              <a:solidFill>
                <a:srgbClr val="000000"/>
              </a:solidFill>
              <a:latin typeface="Arial"/>
            </a:endParaRPr>
          </a:p>
        </p:txBody>
      </p:sp>
      <p:sp>
        <p:nvSpPr>
          <p:cNvPr id="600" name="PlaceHolder 1"/>
          <p:cNvSpPr>
            <a:spLocks noGrp="1"/>
          </p:cNvSpPr>
          <p:nvPr>
            <p:ph type="title"/>
          </p:nvPr>
        </p:nvSpPr>
        <p:spPr>
          <a:xfrm>
            <a:off x="457200" y="182160"/>
            <a:ext cx="8229600" cy="671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als of Universal Design</a:t>
            </a:r>
            <a:endParaRPr b="1" lang="en-US" sz="2200" spc="-1" strike="noStrike">
              <a:solidFill>
                <a:srgbClr val="ffffff"/>
              </a:solidFill>
              <a:latin typeface="Arial"/>
            </a:endParaRPr>
          </a:p>
        </p:txBody>
      </p:sp>
      <p:sp>
        <p:nvSpPr>
          <p:cNvPr id="601" name="Footer Placeholder 3"/>
          <p:cNvSpPr/>
          <p:nvPr/>
        </p:nvSpPr>
        <p:spPr>
          <a:xfrm>
            <a:off x="3246480" y="6497640"/>
            <a:ext cx="2895480" cy="171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3171 Draft</a:t>
            </a:r>
            <a:endParaRPr b="0" lang="en-US" sz="800" spc="-1" strike="noStrike">
              <a:solidFill>
                <a:srgbClr val="000000"/>
              </a:solidFill>
              <a:latin typeface="Arial"/>
            </a:endParaRPr>
          </a:p>
        </p:txBody>
      </p:sp>
      <p:sp>
        <p:nvSpPr>
          <p:cNvPr id="602" name="Slide Number Placeholder 4"/>
          <p:cNvSpPr/>
          <p:nvPr/>
        </p:nvSpPr>
        <p:spPr>
          <a:xfrm>
            <a:off x="6553080" y="6497640"/>
            <a:ext cx="2133720" cy="17136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B4F1-202E-4F6F-9CA3-23F276A5D47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03" name="TextBox 6"/>
          <p:cNvSpPr/>
          <p:nvPr/>
        </p:nvSpPr>
        <p:spPr>
          <a:xfrm>
            <a:off x="4471920" y="57240"/>
            <a:ext cx="4745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infeld &amp; Maisel (2012) presented 8 goals: 4 of which are discussed in SAE report  as helpful for testing &amp; 1 for designers</a:t>
            </a:r>
            <a:endParaRPr b="0" lang="en-US" sz="1600" spc="-1" strike="noStrike">
              <a:solidFill>
                <a:srgbClr val="000000"/>
              </a:solidFill>
              <a:latin typeface="Arial"/>
            </a:endParaRPr>
          </a:p>
        </p:txBody>
      </p:sp>
      <p:sp>
        <p:nvSpPr>
          <p:cNvPr id="604" name="Left Brace 8"/>
          <p:cNvSpPr/>
          <p:nvPr/>
        </p:nvSpPr>
        <p:spPr>
          <a:xfrm>
            <a:off x="228600" y="1200240"/>
            <a:ext cx="946080" cy="3676680"/>
          </a:xfrm>
          <a:custGeom>
            <a:avLst/>
            <a:gdLst>
              <a:gd name="textAreaLeft" fmla="*/ 604440 w 946080"/>
              <a:gd name="textAreaRight" fmla="*/ 946440 w 946080"/>
              <a:gd name="textAreaTop" fmla="*/ 24480 h 3676680"/>
              <a:gd name="textAreaBottom" fmla="*/ 3652200 h 3676680"/>
            </a:gdLst>
            <a:ahLst/>
            <a:rect l="textAreaLeft" t="textAreaTop" r="textAreaRight" b="textAreaBottom"/>
            <a:pathLst>
              <a:path w="21600" h="21600">
                <a:moveTo>
                  <a:pt x="21600" y="0"/>
                </a:moveTo>
                <a:cubicBezTo>
                  <a:pt x="16200" y="0"/>
                  <a:pt x="10800" y="232"/>
                  <a:pt x="10800" y="463"/>
                </a:cubicBezTo>
                <a:lnTo>
                  <a:pt x="10800" y="10522"/>
                </a:lnTo>
                <a:cubicBezTo>
                  <a:pt x="10800" y="10754"/>
                  <a:pt x="5400" y="10985"/>
                  <a:pt x="0" y="10985"/>
                </a:cubicBezTo>
                <a:cubicBezTo>
                  <a:pt x="5400" y="10985"/>
                  <a:pt x="10800" y="11217"/>
                  <a:pt x="10800" y="11448"/>
                </a:cubicBezTo>
                <a:lnTo>
                  <a:pt x="10800" y="21137"/>
                </a:lnTo>
                <a:cubicBezTo>
                  <a:pt x="10800" y="21369"/>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9"/>
          <p:cNvSpPr/>
          <p:nvPr/>
        </p:nvSpPr>
        <p:spPr>
          <a:xfrm rot="16200000">
            <a:off x="-1060920" y="2929320"/>
            <a:ext cx="257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sting</a:t>
            </a:r>
            <a:endParaRPr b="0" lang="en-US" sz="1800" spc="-1" strike="noStrike">
              <a:solidFill>
                <a:srgbClr val="000000"/>
              </a:solidFill>
              <a:latin typeface="Arial"/>
            </a:endParaRPr>
          </a:p>
        </p:txBody>
      </p:sp>
      <p:sp>
        <p:nvSpPr>
          <p:cNvPr id="606" name="Left Brace 9"/>
          <p:cNvSpPr/>
          <p:nvPr/>
        </p:nvSpPr>
        <p:spPr>
          <a:xfrm>
            <a:off x="228600" y="4981680"/>
            <a:ext cx="917640" cy="523800"/>
          </a:xfrm>
          <a:custGeom>
            <a:avLst/>
            <a:gdLst>
              <a:gd name="textAreaLeft" fmla="*/ 586440 w 917640"/>
              <a:gd name="textAreaRight" fmla="*/ 918000 w 917640"/>
              <a:gd name="textAreaTop" fmla="*/ 13320 h 523800"/>
              <a:gd name="textAreaBottom" fmla="*/ 510480 h 523800"/>
            </a:gdLst>
            <a:ahLst/>
            <a:rect l="textAreaLeft" t="textAreaTop" r="textAreaRight" b="textAreaBottom"/>
            <a:pathLst>
              <a:path w="21600" h="21600">
                <a:moveTo>
                  <a:pt x="21600" y="0"/>
                </a:moveTo>
                <a:cubicBezTo>
                  <a:pt x="16200" y="0"/>
                  <a:pt x="10800" y="900"/>
                  <a:pt x="10800" y="1800"/>
                </a:cubicBezTo>
                <a:lnTo>
                  <a:pt x="10800" y="9185"/>
                </a:lnTo>
                <a:cubicBezTo>
                  <a:pt x="10800" y="10085"/>
                  <a:pt x="5400" y="10985"/>
                  <a:pt x="0" y="10985"/>
                </a:cubicBezTo>
                <a:cubicBezTo>
                  <a:pt x="5400" y="10985"/>
                  <a:pt x="10800" y="11885"/>
                  <a:pt x="10800" y="12785"/>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Box 9"/>
          <p:cNvSpPr/>
          <p:nvPr/>
        </p:nvSpPr>
        <p:spPr>
          <a:xfrm rot="16200000">
            <a:off x="-1032120" y="2902320"/>
            <a:ext cx="257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sting</a:t>
            </a:r>
            <a:endParaRPr b="0" lang="en-US" sz="1800" spc="-1" strike="noStrike">
              <a:solidFill>
                <a:srgbClr val="000000"/>
              </a:solidFill>
              <a:latin typeface="Arial"/>
            </a:endParaRPr>
          </a:p>
        </p:txBody>
      </p:sp>
      <p:sp>
        <p:nvSpPr>
          <p:cNvPr id="608" name="TextBox 9"/>
          <p:cNvSpPr/>
          <p:nvPr/>
        </p:nvSpPr>
        <p:spPr>
          <a:xfrm rot="16200000">
            <a:off x="-765720" y="5094720"/>
            <a:ext cx="1989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21:51:37Z</dcterms:created>
  <dc:creator>Tom</dc:creator>
  <dc:description/>
  <cp:keywords/>
  <dc:language>en-US</dc:language>
  <cp:lastModifiedBy>Rebecca Grier</cp:lastModifiedBy>
  <cp:lastPrinted>2013-08-13T13:23:26Z</cp:lastPrinted>
  <dcterms:modified xsi:type="dcterms:W3CDTF">2019-07-16T12:28:40Z</dcterms:modified>
  <cp:revision>75</cp:revision>
  <dc:subject/>
  <dc:title>Presentation title in SAE Blue,  Arial Bold 21pt on one or two lines</dc:title>
</cp:coreProperties>
</file>